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0EE-931A-4278-AA23-DE9562E5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85C-ECE0-4CBC-A3C3-FA6C58AC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CE-10A2-48CD-BCC0-906B7AEC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76D-4AE8-463D-9A96-24C30AAE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E62-CF66-4400-8EA6-4509061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0FF-D974-436C-B58F-24AAAC3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945-A9BB-4EE0-9527-D5E7FD3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9C9-DCAA-4441-BB1C-BCFE680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2E9-4067-4EF0-8257-9BEF47A7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F1B-2ECA-45E5-A354-50DC520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7E2-827E-4216-A19E-62FBD10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CCC-C24F-44B8-87C5-E42B0DC8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50A-F2B2-441D-A709-40CE40EB2F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480960" y="1054080"/>
            <a:ext cx="8186760" cy="6778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469800" y="1736640"/>
            <a:ext cx="658332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4"/>
          <a:stretch/>
        </p:blipFill>
        <p:spPr>
          <a:xfrm>
            <a:off x="798480" y="4425840"/>
            <a:ext cx="544356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2" descr=""/>
          <p:cNvPicPr/>
          <p:nvPr/>
        </p:nvPicPr>
        <p:blipFill>
          <a:blip r:embed="rId5"/>
          <a:stretch/>
        </p:blipFill>
        <p:spPr>
          <a:xfrm>
            <a:off x="907920" y="2554200"/>
            <a:ext cx="560880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2" descr=""/>
          <p:cNvPicPr/>
          <p:nvPr/>
        </p:nvPicPr>
        <p:blipFill>
          <a:blip r:embed="rId6"/>
          <a:stretch/>
        </p:blipFill>
        <p:spPr>
          <a:xfrm>
            <a:off x="476280" y="4943520"/>
            <a:ext cx="6583320" cy="853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2" descr=""/>
          <p:cNvPicPr/>
          <p:nvPr/>
        </p:nvPicPr>
        <p:blipFill>
          <a:blip r:embed="rId7"/>
          <a:stretch/>
        </p:blipFill>
        <p:spPr>
          <a:xfrm>
            <a:off x="457200" y="381636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322280" y="2451240"/>
            <a:ext cx="224316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39760" y="1908000"/>
            <a:ext cx="637056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68280" y="3906720"/>
            <a:ext cx="4529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27160" y="4998960"/>
            <a:ext cx="515124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468520" y="5583240"/>
            <a:ext cx="9810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1" descr=""/>
          <p:cNvPicPr/>
          <p:nvPr/>
        </p:nvPicPr>
        <p:blipFill>
          <a:blip r:embed="rId9"/>
          <a:stretch/>
        </p:blipFill>
        <p:spPr>
          <a:xfrm>
            <a:off x="6010200" y="2103480"/>
            <a:ext cx="25480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328760" y="3048120"/>
            <a:ext cx="300528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3286080" y="2517840"/>
            <a:ext cx="3102120" cy="549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2"/>
          <a:stretch/>
        </p:blipFill>
        <p:spPr>
          <a:xfrm>
            <a:off x="3322800" y="3114720"/>
            <a:ext cx="30780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3"/>
          <a:stretch/>
        </p:blipFill>
        <p:spPr>
          <a:xfrm>
            <a:off x="2255760" y="4395960"/>
            <a:ext cx="8892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781200" y="1036800"/>
            <a:ext cx="494316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768240" y="3067200"/>
            <a:ext cx="318132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023840" y="1547640"/>
            <a:ext cx="115884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2889360" y="3048120"/>
            <a:ext cx="300492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2"/>
          <p:cNvSpPr/>
          <p:nvPr/>
        </p:nvSpPr>
        <p:spPr>
          <a:xfrm>
            <a:off x="4998960" y="486684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7635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792000" y="5595840"/>
            <a:ext cx="5310360" cy="708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176480" y="2163600"/>
            <a:ext cx="2365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2639880" y="2160720"/>
            <a:ext cx="235908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2803680" y="3670200"/>
            <a:ext cx="300672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0"/>
          <a:stretch/>
        </p:blipFill>
        <p:spPr>
          <a:xfrm>
            <a:off x="3292560" y="4290840"/>
            <a:ext cx="300492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1"/>
          <a:stretch/>
        </p:blipFill>
        <p:spPr>
          <a:xfrm>
            <a:off x="3449520" y="4876920"/>
            <a:ext cx="13669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848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426960" y="4048200"/>
            <a:ext cx="55166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133640" y="5479920"/>
            <a:ext cx="655308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8" descr=""/>
          <p:cNvPicPr/>
          <p:nvPr/>
        </p:nvPicPr>
        <p:blipFill>
          <a:blip r:embed="rId5"/>
          <a:stretch/>
        </p:blipFill>
        <p:spPr>
          <a:xfrm>
            <a:off x="6370560" y="2004840"/>
            <a:ext cx="25416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6381720" y="4022640"/>
            <a:ext cx="2597040" cy="14511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7"/>
          <a:stretch/>
        </p:blipFill>
        <p:spPr>
          <a:xfrm>
            <a:off x="682560" y="1006560"/>
            <a:ext cx="788832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847800" y="3011400"/>
            <a:ext cx="6583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390060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768240" y="3486240"/>
            <a:ext cx="6583320" cy="787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14360" y="1530360"/>
            <a:ext cx="552276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1158840" y="4389480"/>
            <a:ext cx="6089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92160" y="2932200"/>
            <a:ext cx="6589800" cy="4633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1163520" y="3438360"/>
            <a:ext cx="6091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9776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828720" y="4584600"/>
            <a:ext cx="658332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1328760" y="2852640"/>
            <a:ext cx="223668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6"/>
          <a:stretch/>
        </p:blipFill>
        <p:spPr>
          <a:xfrm>
            <a:off x="828720" y="39560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4"/>
          <a:stretch/>
        </p:blipFill>
        <p:spPr>
          <a:xfrm>
            <a:off x="853920" y="2378160"/>
            <a:ext cx="6583680" cy="6141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5"/>
          <a:stretch/>
        </p:blipFill>
        <p:spPr>
          <a:xfrm>
            <a:off x="1116000" y="3127320"/>
            <a:ext cx="241920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6"/>
          <a:stretch/>
        </p:blipFill>
        <p:spPr>
          <a:xfrm>
            <a:off x="835200" y="4218120"/>
            <a:ext cx="6583320" cy="5364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7"/>
          <a:stretch/>
        </p:blipFill>
        <p:spPr>
          <a:xfrm>
            <a:off x="2712960" y="3181320"/>
            <a:ext cx="23036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8"/>
          <a:stretch/>
        </p:blipFill>
        <p:spPr>
          <a:xfrm>
            <a:off x="3249720" y="3633840"/>
            <a:ext cx="2303280" cy="461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9"/>
          <a:stretch/>
        </p:blipFill>
        <p:spPr>
          <a:xfrm>
            <a:off x="4919760" y="3181320"/>
            <a:ext cx="2340000" cy="5065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0"/>
          <a:stretch/>
        </p:blipFill>
        <p:spPr>
          <a:xfrm>
            <a:off x="5450040" y="3633840"/>
            <a:ext cx="234144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2" descr=""/>
          <p:cNvPicPr/>
          <p:nvPr/>
        </p:nvPicPr>
        <p:blipFill>
          <a:blip r:embed="rId11"/>
          <a:stretch/>
        </p:blipFill>
        <p:spPr>
          <a:xfrm>
            <a:off x="6181560" y="4346640"/>
            <a:ext cx="231624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2"/>
          <a:stretch/>
        </p:blipFill>
        <p:spPr>
          <a:xfrm>
            <a:off x="822240" y="4730760"/>
            <a:ext cx="658512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3"/>
          <a:stretch/>
        </p:blipFill>
        <p:spPr>
          <a:xfrm>
            <a:off x="3236760" y="5126040"/>
            <a:ext cx="410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4"/>
          <a:stretch/>
        </p:blipFill>
        <p:spPr>
          <a:xfrm>
            <a:off x="4175280" y="5535720"/>
            <a:ext cx="20602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8:22Z</dcterms:modified>
  <cp:revision>13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